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5142-E706-4F60-ABB0-C0164283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51EB-5EB7-446F-9D79-5FFB3A8A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D9C6-BF1D-42AE-8793-DD9368DE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71E6-CEF6-48D8-BDE9-3D72DAC8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6978-6783-490F-820F-8A937DCC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F1D0-EFB4-48D1-9F83-0C1CC0AF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465E-997B-4181-BAB8-9167BB61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1EB5-19CD-452B-A51A-16DF33FB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93B4-E4CB-4865-895C-DE41625E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74C8-7782-4131-8516-B94F1514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8CB8-31D2-42EC-A541-62D3A67E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4A4E-D40B-492C-96B1-52829EF6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E322-9723-4DC4-BD78-4535617C1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google.ru/search?q=&#1083;&#1080;&#1089;&#1090;&#1080;&#1082;&#1080;&amp;newwindow=1&amp;tbm=isch&amp;tbo=u&amp;source=univ&amp;sa=X&amp;ei=GUlxUpmZAajJ4ATJpYCgCQ&amp;ved=0CCkQsAQ&amp;biw=1276&amp;bih=610" TargetMode="External"/><Relationship Id="rId2" Type="http://schemas.openxmlformats.org/officeDocument/2006/relationships/hyperlink" Target="https://www.google.ru/search?q=&#1083;&#1080;&#1089;&#1090;&#1080;&#1082;&#1080;&amp;newwindow=1&amp;tbm=isch&amp;tbo=u&amp;source=univ&amp;sa=X&amp;ei=GUlxUpmZAajJ4ATJpYCgCQ&amp;ved=0CCkQsAQ&amp;biw=1276&amp;bih=610" TargetMode="External"/><Relationship Id="rId3" Type="http://schemas.openxmlformats.org/officeDocument/2006/relationships/hyperlink" Target="https://www.google.ru/search?q=&#1083;&#1080;&#1089;&#1090;&#1080;&#1082;&#1080;&amp;newwindow=1&amp;tbm=isch&amp;tbo=u&amp;source=univ&amp;sa=X&amp;ei=GUlxUpmZAajJ4ATJpYCgCQ&amp;ved=0CCkQsAQ&amp;biw=1276&amp;bih=610" TargetMode="External"/><Relationship Id="rId4" Type="http://schemas.openxmlformats.org/officeDocument/2006/relationships/hyperlink" Target="https://www.google.ru/search?q=&#1083;&#1080;&#1089;&#1090;&#1080;&#1082;&#1080;&amp;newwindow=1&amp;tbm=isch&amp;tbo=u&amp;source=univ&amp;sa=X&amp;ei=GUlxUpmZAajJ4ATJpYCgCQ&amp;ved=0CCkQsAQ&amp;biw=1276&amp;bih=610" TargetMode="External"/><Relationship Id="rId5" Type="http://schemas.openxmlformats.org/officeDocument/2006/relationships/hyperlink" Target="https://www.google.ru/search?q=&#1083;&#1080;&#1089;&#1090;&#1080;&#1082;&#1080;&amp;newwindow=1&amp;tbm=isch&amp;tbo=u&amp;source=univ&amp;sa=X&amp;ei=GUlxUpmZAajJ4ATJpYCgCQ&amp;ved=0CCkQsAQ&amp;biw=1276&amp;bih=610" TargetMode="External"/><Relationship Id="rId6" Type="http://schemas.openxmlformats.org/officeDocument/2006/relationships/hyperlink" Target="https://www.google.ru/search?q=&#1083;&#1080;&#1089;&#1090;&#1080;&#1082;&#1080;&amp;newwindow=1&amp;tbm=isch&amp;tbo=u&amp;source=univ&amp;sa=X&amp;ei=GUlxUpmZAajJ4ATJpYCgCQ&amp;ved=0CCkQsAQ&amp;biw=1276&amp;bih=610" TargetMode="External"/><Relationship Id="rId7" Type="http://schemas.openxmlformats.org/officeDocument/2006/relationships/hyperlink" Target="https://www.google.ru/search?q=&#1083;&#1080;&#1089;&#1090;&#1080;&#1082;&#1080;&amp;newwindow=1&amp;tbm=isch&amp;tbo=u&amp;source=univ&amp;sa=X&amp;ei=GUlxUpmZAajJ4ATJpYCgCQ&amp;ved=0CCkQsAQ&amp;biw=1276&amp;bih=610" TargetMode="External"/><Relationship Id="rId8" Type="http://schemas.openxmlformats.org/officeDocument/2006/relationships/hyperlink" Target="https://www.google.ru/search?q=&#1083;&#1080;&#1089;&#1090;&#1080;&#1082;&#1080;&amp;newwindow=1&amp;tbm=isch&amp;tbo=u&amp;source=univ&amp;sa=X&amp;ei=GUlxUpmZAajJ4ATJpYCgCQ&amp;ved=0CCkQsAQ&amp;biw=1276&amp;bih=610" TargetMode="External"/><Relationship Id="rId9" Type="http://schemas.openxmlformats.org/officeDocument/2006/relationships/hyperlink" Target="https://www.google.ru/search?q=&#1083;&#1080;&#1089;&#1090;&#1080;&#1082;&#1080;&amp;newwindow=1&amp;tbm=isch&amp;tbo=u&amp;source=univ&amp;sa=X&amp;ei=GUlxUpmZAajJ4ATJpYCgCQ&amp;ved=0CCkQsAQ&amp;biw=1276&amp;bih=610" TargetMode="External"/><Relationship Id="rId10" Type="http://schemas.openxmlformats.org/officeDocument/2006/relationships/hyperlink" Target="https://www.google.ru/search?q=&#1083;&#1080;&#1089;&#1090;&#1080;&#1082;&#1080;&amp;newwindow=1&amp;tbm=isch&amp;tbo=u&amp;source=univ&amp;sa=X&amp;ei=GUlxUpmZAajJ4ATJpYCgCQ&amp;ved=0CCkQsAQ&amp;biw=1276&amp;bih=610" TargetMode="External"/><Relationship Id="rId11" Type="http://schemas.openxmlformats.org/officeDocument/2006/relationships/hyperlink" Target="https://www.google.ru/search?q=&#1083;&#1080;&#1089;&#1090;&#1080;&#1082;&#1080;&amp;newwindow=1&amp;tbm=isch&amp;tbo=u&amp;source=univ&amp;sa=X&amp;ei=GUlxUpmZAajJ4ATJpYCgCQ&amp;ved=0CCkQsAQ&amp;biw=1276&amp;bih=610" TargetMode="External"/><Relationship Id="rId12" Type="http://schemas.openxmlformats.org/officeDocument/2006/relationships/hyperlink" Target="https://www.google.ru/search?q=&#1083;&#1080;&#1089;&#1090;&#1080;&#1082;&#1080;&amp;newwindow=1&amp;tbm=isch&amp;tbo=u&amp;source=univ&amp;sa=X&amp;ei=GUlxUpmZAajJ4ATJpYCgCQ&amp;ved=0CCkQsAQ&amp;biw=1276&amp;bih=610" TargetMode="External"/><Relationship Id="rId13" Type="http://schemas.openxmlformats.org/officeDocument/2006/relationships/hyperlink" Target="https://www.google.ru/search?q=&#1083;&#1080;&#1089;&#1090;&#1080;&#1082;&#1080;&amp;newwindow=1&amp;tbm=isch&amp;tbo=u&amp;source=univ&amp;sa=X&amp;ei=GUlxUpmZAajJ4ATJpYCgCQ&amp;ved=0CCkQsAQ&amp;biw=1276&amp;bih=610" TargetMode="External"/><Relationship Id="rId14" Type="http://schemas.openxmlformats.org/officeDocument/2006/relationships/hyperlink" Target="https://www.google.ru/search?q=&#1083;&#1080;&#1089;&#1090;&#1080;&#1082;&#1080;&amp;newwindow=1&amp;tbm=isch&amp;tbo=u&amp;source=univ&amp;sa=X&amp;ei=GUlxUpmZAajJ4ATJpYCgCQ&amp;ved=0CCkQsAQ&amp;biw=1276&amp;bih=610" TargetMode="External"/><Relationship Id="rId15" Type="http://schemas.openxmlformats.org/officeDocument/2006/relationships/hyperlink" Target="https://www.google.ru/search?q=&#1083;&#1080;&#1089;&#1090;&#1080;&#1082;&#1080;&amp;newwindow=1&amp;tbm=isch&amp;tbo=u&amp;source=univ&amp;sa=X&amp;ei=GUlxUpmZAajJ4ATJpYCgCQ&amp;ved=0CCkQsAQ&amp;biw=1276&amp;bih=610" TargetMode="External"/><Relationship Id="rId16" Type="http://schemas.openxmlformats.org/officeDocument/2006/relationships/hyperlink" Target="https://www.google.ru/search?q=&#1083;&#1080;&#1089;&#1090;&#1080;&#1082;&#1080;&amp;newwindow=1&amp;tbm=isch&amp;tbo=u&amp;source=univ&amp;sa=X&amp;ei=GUlxUpmZAajJ4ATJpYCgCQ&amp;ved=0CCkQsAQ&amp;biw=1276&amp;bih=610" TargetMode="External"/><Relationship Id="rId17" Type="http://schemas.openxmlformats.org/officeDocument/2006/relationships/hyperlink" Target="https://www.google.ru/search?q=&#1083;&#1080;&#1089;&#1090;&#1080;&#1082;&#1080;&amp;newwindow=1&amp;tbm=isch&amp;tbo=u&amp;source=univ&amp;sa=X&amp;ei=GUlxUpmZAajJ4ATJpYCgCQ&amp;ved=0CCkQsAQ&amp;biw=1276&amp;bih=610" TargetMode="External"/><Relationship Id="rId18" Type="http://schemas.openxmlformats.org/officeDocument/2006/relationships/hyperlink" Target="http://hq-wallpapers.ru/wallpapers/nature/pic64909_raz1440x900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19640" y="404640"/>
            <a:ext cx="3022560" cy="201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Обучающее изложение по русскому языку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«Путешественница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88000" y="2349000"/>
            <a:ext cx="4068720" cy="25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 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МК «Школа Росси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bestgif.su/_ph/47/2/363176978.gif"/>
          <p:cNvPicPr/>
          <p:nvPr/>
        </p:nvPicPr>
        <p:blipFill>
          <a:blip r:embed="rId1"/>
          <a:stretch/>
        </p:blipFill>
        <p:spPr>
          <a:xfrm>
            <a:off x="324000" y="189000"/>
            <a:ext cx="4608360" cy="6143400"/>
          </a:xfrm>
          <a:prstGeom prst="rect">
            <a:avLst/>
          </a:prstGeom>
          <a:ln cap="sq" w="381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2" descr="http://img-fotki.yandex.ru/get/17/dakalmykov.10/0_d436_15008a68_-1-L.jpg"/>
          <p:cNvPicPr/>
          <p:nvPr/>
        </p:nvPicPr>
        <p:blipFill>
          <a:blip r:embed="rId1"/>
          <a:stretch/>
        </p:blipFill>
        <p:spPr>
          <a:xfrm>
            <a:off x="1258920" y="189000"/>
            <a:ext cx="8026200" cy="6419880"/>
          </a:xfrm>
          <a:prstGeom prst="rect">
            <a:avLst/>
          </a:prstGeom>
          <a:ln cap="sq" w="381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утешественниц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4920" y="1268280"/>
            <a:ext cx="8064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сень. В лесу тихо журчал ручей.         На воде ручья плыл парад лист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На одном листке сидела маленькая птичка. Это королё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утешественница доплыла до изгиба ручья. Там она вспорхнула и вернулась наза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тичка села на веточку и стала ждать. Тут подплыл яркий листик. Королёк опустился на листик. Как на кораблике она поплыла дальш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img-fotki.yandex.ru/get/17/dakalmykov.10/0_d436_15008a68_-1-L.jpg"/>
          <p:cNvPicPr/>
          <p:nvPr/>
        </p:nvPicPr>
        <p:blipFill>
          <a:blip r:embed="rId1"/>
          <a:srcRect l="0" t="0" r="18357" b="0"/>
          <a:stretch/>
        </p:blipFill>
        <p:spPr>
          <a:xfrm>
            <a:off x="7308720" y="260280"/>
            <a:ext cx="15890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тветь на вопрос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 ком говорится в текс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Что вы интересного узнали о не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очему текст назван «Путешественница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аким образом она совершала своё путешеств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http://hq-wallpapers.ru/wallpapers/13/hq-wallpapers_ru_nature_64909_1440x900.jpg"/>
          <p:cNvPicPr/>
          <p:nvPr/>
        </p:nvPicPr>
        <p:blipFill>
          <a:blip r:embed="rId1"/>
          <a:stretch/>
        </p:blipFill>
        <p:spPr>
          <a:xfrm>
            <a:off x="2484360" y="4437000"/>
            <a:ext cx="3557520" cy="22240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http://zebra-tlt.ru/uploads/posts/2013-09/1379361097_korablik.jpg"/>
          <p:cNvPicPr/>
          <p:nvPr/>
        </p:nvPicPr>
        <p:blipFill>
          <a:blip r:embed="rId2"/>
          <a:stretch/>
        </p:blipFill>
        <p:spPr>
          <a:xfrm>
            <a:off x="5508720" y="3860640"/>
            <a:ext cx="251928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ут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ств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нн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иц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4920" y="1628280"/>
            <a:ext cx="8064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Ос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нь. В л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су тих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журч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л ручей. На в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де руч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ь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я плыл пара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листик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ов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дном листке с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дела мален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ь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кая пти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чк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а. Это к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лё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Путешестве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нн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ица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до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плыла до изгиба руч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ь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я. Там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на всп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рхнула и в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рнулас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ь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наза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Пти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чк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а села на вето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чк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у и стала ждат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ь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 Тут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под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плыл яркий листик. Королёк опу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ст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ился на листик. Как на к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раблике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по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плыла дал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ь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ш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img-fotki.yandex.ru/get/17/dakalmykov.10/0_d436_15008a68_-1-L.jpg"/>
          <p:cNvPicPr/>
          <p:nvPr/>
        </p:nvPicPr>
        <p:blipFill>
          <a:blip r:embed="rId1"/>
          <a:srcRect l="0" t="0" r="18357" b="0"/>
          <a:stretch/>
        </p:blipFill>
        <p:spPr>
          <a:xfrm>
            <a:off x="179280" y="115920"/>
            <a:ext cx="151308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27280" y="40428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лан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8920" y="1267920"/>
            <a:ext cx="8713800" cy="34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Парад листиков.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(тих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о,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 ручей, плыл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Путешественница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.(на листке, пти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чк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а, к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лёк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Первое путешестви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(до изгиба, всп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рхнула, наза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Второе путешествие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.(стала ждат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ь, под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плыл, опу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ст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ился, на к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раблике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mg-fotki.yandex.ru/get/17/dakalmykov.10/0_d436_15008a68_-1-L.jpg"/>
          <p:cNvPicPr/>
          <p:nvPr/>
        </p:nvPicPr>
        <p:blipFill>
          <a:blip r:embed="rId1"/>
          <a:stretch/>
        </p:blipFill>
        <p:spPr>
          <a:xfrm>
            <a:off x="4767120" y="4095720"/>
            <a:ext cx="2913120" cy="3773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www.bankoboev.ru/images/NDM1NDE4/Bankoboev.Ru_klenovye_opavshie_listya_v_vode.jpg"/>
          <p:cNvPicPr/>
          <p:nvPr/>
        </p:nvPicPr>
        <p:blipFill>
          <a:blip r:embed="rId2"/>
          <a:stretch/>
        </p:blipFill>
        <p:spPr>
          <a:xfrm>
            <a:off x="971640" y="115920"/>
            <a:ext cx="205092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353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Интернет-ресурс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4920" y="836280"/>
            <a:ext cx="843588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раблик -</a:t>
            </a:r>
            <a:r>
              <a:rPr b="1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</a:t>
            </a:r>
            <a:r>
              <a:rPr b="1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google.ru/search?q</a:t>
            </a:r>
            <a:r>
              <a:rPr b="1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=%D0%BB%D0%B8%D1%81%D1%82%D0%B8%D0%BA%D0%B8&amp;newwindow=1&amp;tbm=</a:t>
            </a:r>
            <a:r>
              <a:rPr b="1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isch&amp;tbo</a:t>
            </a:r>
            <a:r>
              <a:rPr b="1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=</a:t>
            </a:r>
            <a:r>
              <a:rPr b="1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u&amp;source</a:t>
            </a:r>
            <a:r>
              <a:rPr b="1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=</a:t>
            </a:r>
            <a:r>
              <a:rPr b="1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univ&amp;sa</a:t>
            </a:r>
            <a:r>
              <a:rPr b="1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=</a:t>
            </a:r>
            <a:r>
              <a:rPr b="1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X&amp;ei</a:t>
            </a:r>
            <a:r>
              <a:rPr b="1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=GUlxUpmZAajJ4ATJpYCgCQ&amp;ved=0CCkQsAQ&amp;biw=1276&amp;bih=610#newwindow=1&amp;q=%D0%BA%D0%BE%D1%80%D0%B0%D0%B1%D0%BB%D0%B8%D0%BA&amp;tbm=</a:t>
            </a:r>
            <a:r>
              <a:rPr b="1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isch&amp;facrc</a:t>
            </a:r>
            <a:r>
              <a:rPr b="1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=_&amp;</a:t>
            </a:r>
            <a:r>
              <a:rPr b="1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imgdii</a:t>
            </a:r>
            <a:r>
              <a:rPr b="1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=_&amp;</a:t>
            </a:r>
            <a:r>
              <a:rPr b="1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imgrc</a:t>
            </a:r>
            <a:r>
              <a:rPr b="1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=3_mN7y3bpxbZ2M%3A%3BIG2gOH9F8tQMxM%3Bhttp%253A%252F%252Fzebra-tlt.ru%252Fuploads%252Fposts%252F2013-09%252F1379361097_korablik.jpg%3Bhttp%253A%252F%252Fzebra-tlt.ru%252Fnew_tales%252F487-korablik.html%3B440%3B42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истья на воде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hq-wallpapers.ru/wallpapers/nature/pic64909_raz1440x9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ролёк –птичка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ttp://fotki.yandex.ru/users/dakalmykov/view/54326/?page=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ес-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ttps://www.google.ru/search?q=%D0%BE%D1%81%D0%B5%D0%BD%D1%8C&amp;newwindow=1&amp;tbm=isch&amp;tbo=u&amp;source=univ&amp;sa=X&amp;ei=xVFxUqiiMc2w4QTx84D4Bg&amp;ved=0CCkQsAQ&amp;biw=1600&amp;bih=772#newwindow=1&amp;q=%D0%BE%D1%81%D0%B5%D0%BD%D1%8C%20%D1%80%D0%B8%D1%81%D1%83%D0%BD%D0%BA%D0%B8&amp;revid=1600344464&amp;tbm=isch&amp;facrc=_&amp;imgdii=_&amp;imgrc=nFUZmAD9UnbWRM%3A%3BKgHrdCKGFZb3ZM%3Bhttp%253A%252F%252Fbestgif.su%252F_ph%252F47%252F2%252F363176978.gif%3Bhttp%253A%252F%252Fbestgif.su%252Fphoto%252Fanimashki_blestjashki%252Frisunok_oseni%252F47-0-8009%3B240%3B32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2411280" y="35733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зентацию  подготовила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еменченко Наталья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 МБОУСОШ №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рода Петров Вал Камышинского рай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гогра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ля сайта «Школа АБ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www.shkola-abv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05:28:27Z</dcterms:created>
  <dc:creator>ВЛАДИК</dc:creator>
  <dc:description/>
  <dc:language>en-US</dc:language>
  <cp:lastModifiedBy>Boris</cp:lastModifiedBy>
  <dcterms:modified xsi:type="dcterms:W3CDTF">2013-10-31T15:21:29Z</dcterms:modified>
  <cp:revision>15</cp:revision>
  <dc:subject/>
  <dc:title>Слайд 1</dc:title>
</cp:coreProperties>
</file>